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A69-AD72-4525-A485-1CCEE76A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554-9FC0-4ED0-B048-8E698D92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5C3-23E3-4BC7-B2EB-300C0FF8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162-7299-46D8-87E8-38F7C1E2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FCA-65C5-409F-9EB2-CF44BEB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488-B4C0-45D9-B4B0-EBA879BA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C7F-FC7F-4299-BD6D-DD9E4052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F99-3E56-4457-B7B7-A7148A9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71A-D5C3-4825-A7E1-FC5AAB32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E27-B702-4055-8891-D5685F1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F04-7E89-4F0A-B8A8-A100BAFA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55E-AED7-455D-B04E-5B65993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02A-20EE-4FFD-8943-2F92F1F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3C3-FEAD-4967-A74F-553B6C4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2BB-38A0-45DF-9530-DB1D60E5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soy inteligente y joven.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7339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. :D Tú eres linda, Noureen!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Quieres mi para hornear pastelitos?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Qué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sabor?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enas tardes, Noureen!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ede tú hacer pastelitos de vanilla? Cuánto? Yo tengo que 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029200"/>
            <a:ext cx="441972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Zena Yous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Buenas noches, Noureen! 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¿Quieres comer en un restaurante?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Nosotras debería ir juntos.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8580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6320" y="59436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09480" y="53341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85800" y="59436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1219320" y="52578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76320" y="990720"/>
            <a:ext cx="182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51:31Z</dcterms:created>
  <dc:creator>FriscoISD</dc:creator>
  <dc:description/>
  <dc:language>en-US</dc:language>
  <cp:lastModifiedBy>NYCDOE</cp:lastModifiedBy>
  <dcterms:modified xsi:type="dcterms:W3CDTF">2012-12-07T14:23:43Z</dcterms:modified>
  <cp:revision>105</cp:revision>
  <dc:subject/>
  <dc:title>Profile</dc:title>
</cp:coreProperties>
</file>